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EA8A-2A02-4E76-ADF5-03A45CA8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573D-D658-41BD-A11B-BB7D08F5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AE8D-321B-4201-8343-FFE1DC69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3392-5610-409D-B41F-8E6FAD70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CF0-FBB9-4F4C-9CDD-33BF1C32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CD6-DC2D-43DD-8407-DD6F40DF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E8C1-D86B-42AA-8447-549863B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8DC-E494-45BC-9D2B-2017A42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88FB-330C-4DF9-940C-E1A6A84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2B18-B75C-4E7E-91EA-63ABF1E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F04-DF92-4E5D-B816-BBDC9994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7933-FDA3-457F-A7F4-49DF927D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4662-AB1A-4E9E-8176-8640B5F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5C55-5C9D-4943-AEA6-0CE21813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4C0-A80F-4542-BCB9-94EC73D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DE3D-89DB-40A6-BC29-22256EE4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9A6E-49A1-4CA4-AB5D-A9E4EAF2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8A36-0743-45E4-BEAC-CC67A81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B7FF-C99F-4697-A6D2-F583FC11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1897-B6DD-43EE-83C4-F70FAA7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358C-2E38-4B51-A3C8-2A940F86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2E99-99B3-4025-BBB3-09DFF91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1DB9-6FDC-4F15-802F-2A16A8B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9F45-AF2D-4E29-A3AB-B1E2CD6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5C16-6A01-4EA7-9684-89E2756B1DC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7259-6798-4D3C-8981-90CBA75B20F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80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3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работи прилеж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рзай, доде треп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щ слънчев лъч тъй неж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ре в висо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дето слънце гре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рзай ти в пътя с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веч нощта тъмнее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рзай, рабо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, работи прилеж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силний слънчев пек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 делото успеш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акай отдих ле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' таз минута злат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мине в подвиг свя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руд, с вяра непоклат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ните да лет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8224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, работи прилеж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нят ощ' дор светле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кат' небе безбреж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ще румене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рзай преди лъч сет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е скрий зад плани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чезне кат' последе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ощни тъмнин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6-19T16:00:06Z</dcterms:modified>
  <cp:revision>174</cp:revision>
  <dc:subject/>
  <dc:title>Slide 1</dc:title>
</cp:coreProperties>
</file>